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704-025A-4CD9-A120-A79B789A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C34-2370-4CBA-802E-70C1B128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6B8-11DC-4881-8B40-F3C2A0F3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8B9-359E-4B3D-9D70-DF9BCD7A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6FA7-4561-45F7-B301-C443F4FE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3833-6D27-42CE-970A-D9951C69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57E7-F975-4102-A5B0-34CF230E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DA72-B531-4611-83F1-FB774563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6C17-F09D-4C99-B96E-EDCC05F0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F0DF-A606-4A43-8896-EC954D2C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98E4-8D9D-43E4-8C45-6F12CB11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035-3C4C-4AF6-8A5F-BF3A7EF2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8D35-785B-47E7-AE80-FC5B9AB2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84E3-6E59-4498-85D7-0565DBEF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1634-5DB8-462E-8B9B-419D711F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A8C4-B8B7-437A-AEA1-B3D528B7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A881-B193-4CA4-9042-E7BBB983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135A-9B57-4813-A113-57B604E5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A1B27-FAB6-44E7-82FE-3F8CC1E6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54DF-46DE-4B14-8A26-2F3F3171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9C97F-ED91-4C5E-A3C7-76F2FA5F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2DDD5-9BDE-436E-8185-E07D26D9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B1E-B12A-4456-9288-CA37018A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85745-CF1A-4D45-81AF-F385E417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97AB-B45C-49C2-9EC8-C50AF51B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5E5B0-8D4B-4B86-A4BE-0E357B3D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0EE9A-D6D0-4C57-948C-590A882C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785C5-89F8-46F2-89B4-A8AD02A1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E3ED3-1138-4137-902D-69BC3D16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460F-487A-4DE0-8D17-1B1EE764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9336D-51C9-465E-833C-4D34CC63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BEC39-4B38-44A2-ABCF-BE0D526B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25531-6EB6-4AE6-8C82-9277F0B3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6040-1A48-44BC-B081-425220F3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E2FA5-A56B-4B05-8F14-A0116767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643CA-4785-47E5-ADD4-C865F351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B6AB4-C22F-441C-8095-E9AA8BFF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A9779-4209-4200-B7F7-2F7C9121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D0A60-17E2-4170-B3CD-209731F9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DC9F4-7602-416D-AA3E-559D5F8C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B1854-9F96-4D07-B270-3DCD2C1E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B8438-0BCC-419B-ABCA-0D30F627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80166-2469-4F13-9649-0CD9BC1F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E9DC8-3000-44E7-AFC8-AC0C68DB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AAD-0EFD-4720-B07F-E15CE66F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B586E-6C98-476A-909B-43D87AC7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A3AF3-0541-4DA9-B725-1E489447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152B1-1A22-438C-93A9-7D88F929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F88CC-A940-4EAE-8053-99DA9B1F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7CB00-7F2D-4945-9C9F-FB36FB4D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94669-01EF-4838-896A-0211D5B8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CE8A7-18C4-4E0A-AB92-217FA894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46DCA-6819-4143-BB81-B10AD3AF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4F6B5-32E9-4D90-A0E7-A93DCFDE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6B5A4-0918-489C-9F27-C3C8AB14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258-FCE0-40DD-9705-38135E09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B3F55-32A8-4416-8824-A507B683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F185D-FC72-4463-B310-96089D8D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CC5DF-6D7C-41EC-A5BD-90C75AC1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D6893-46D7-4759-B756-229AEA6E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E6E67-8FA5-442C-AE03-67FDCDED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9077E-9528-4368-A1E3-C5F035D9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6D1F7-9470-441D-89C3-84121BCB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B36DA-64E9-48B1-B89A-32F5D455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2A714-5CB5-4156-BABA-7F66CEDF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36B42-39EA-4E7C-9338-C109342F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4B7-AED3-440E-B115-3E28C195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B3C4E-4A5A-4C42-920B-790FA858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849C5-FB18-47C7-B4E4-18B283A0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28B88-F89D-4EBE-951A-6D88D16C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29F84-DB23-4C7B-A90B-367B10C0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5BAF6-3024-4A5C-BD15-9B6101FC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B1EFE-6F61-4500-ABD0-645F45AD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0ADB6-BC71-43D4-8043-0BBF2D40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35232-2E9E-4CEE-9E47-345160F1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B9E76-5680-400E-B89B-2A6FE158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01F92-573E-481C-B3AC-7761822B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7FD-B436-4F60-8D36-DB08EB8C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15692-5184-49FD-8DEA-39B55F0D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4A286-F478-4C73-A495-52701F64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5D5AE-7095-42CE-8EF0-D14E38EA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57C2B-ACE9-49DF-B625-8854144A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8B685-9DB6-4A22-B862-550953C6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49F-56BA-44CB-A32F-59D10C93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0DD4-440B-4A64-AEBE-9ED87BFD394E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80F4-3611-4D70-8D00-03BC5ABCFF9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84E7-C632-459D-A2BF-54DC23FE5ED6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BC6D-7092-4499-B462-054B381E325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EB2F-A75D-4D5B-A027-198893DF391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7EE7-4D3E-4A1A-803D-A3D58168117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C67D-F89E-4F0A-A2AC-F68AC70CD3B4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Tuesday, April 10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Please turn in your 1920s-1930s essay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rbel"/>
              </a:rPr>
              <a:t>HOMEWORK due Monday, 4/16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:  32.1-32.2 Study Guide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itler’s Lightning War &amp; Pearl Harbo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re will be a quiz!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724280" y="3809880"/>
            <a:ext cx="36007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0482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</a:rPr>
              <a:t>Foreign Policy Simulation (1930s)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72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r </a:t>
            </a:r>
            <a:r>
              <a:rPr b="1" lang="en-US" sz="3200" spc="-1" strike="noStrike">
                <a:solidFill>
                  <a:srgbClr val="f0ad00"/>
                </a:solidFill>
                <a:latin typeface="Corbel"/>
              </a:rPr>
              <a:t>each of the six events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, read the information.  Decide which response option BEST FITS with your country’s foreign policy goals. Explain your choice beneath each ev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3"/>
          <a:srcRect l="0" t="0" r="0" b="8859"/>
          <a:stretch/>
        </p:blipFill>
        <p:spPr>
          <a:xfrm>
            <a:off x="2543040" y="1523880"/>
            <a:ext cx="4467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7165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"/>
          <p:cNvPicPr/>
          <p:nvPr/>
        </p:nvPicPr>
        <p:blipFill>
          <a:blip r:embed="rId3"/>
          <a:stretch/>
        </p:blipFill>
        <p:spPr>
          <a:xfrm>
            <a:off x="1447920" y="1676520"/>
            <a:ext cx="6459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3"/>
          <a:stretch/>
        </p:blipFill>
        <p:spPr>
          <a:xfrm>
            <a:off x="2705040" y="1523880"/>
            <a:ext cx="377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3"/>
          <a:stretch/>
        </p:blipFill>
        <p:spPr>
          <a:xfrm>
            <a:off x="1219320" y="1523880"/>
            <a:ext cx="67341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934920" y="1523880"/>
            <a:ext cx="744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From Isolation to Involvemen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728640" indent="-60948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Quick Prezi introduction to the late 1930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buClr>
                <a:srgbClr val="60b5cc"/>
              </a:buClr>
              <a:buSzPct val="9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Yellow outline shee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728640" indent="-60948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reign Policy Simulation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oals sheet (with table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</a:rPr>
              <a:t>Foreign Policy Simulation (1930s)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774800"/>
            <a:ext cx="441972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6 countrie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6 group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REE people in each group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Your group must have at least one girl and one bo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f all I hear is “no” then I will decide groups agai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105520" y="2503440"/>
            <a:ext cx="37526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</a:rPr>
              <a:t>Foreign Policy Simulation (1930s)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706680" indent="-59112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amiliarize yourself with your nation’s goals and motivations.  Fill in your box on the Foreign Policy char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706680" indent="-59112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epare a 30-60 second speech explaining your country’s Foreign Policy Objective in the 1930s and your reasons behind i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706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i="1" lang="en-US" sz="2800" spc="-1" strike="noStrike">
                <a:solidFill>
                  <a:srgbClr val="f0ad00"/>
                </a:solidFill>
                <a:latin typeface="Corbel"/>
              </a:rPr>
              <a:t>Let it be known to the nations of the world that ____________ has the following foreign policy goals: ….  We stand by our goals for the following reasons…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rcRect l="0" t="0" r="1978" b="0"/>
          <a:stretch/>
        </p:blipFill>
        <p:spPr>
          <a:xfrm>
            <a:off x="685800" y="1828800"/>
            <a:ext cx="75438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219320" y="1778040"/>
            <a:ext cx="64767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rcRect l="1247" t="1861" r="1558" b="1439"/>
          <a:stretch/>
        </p:blipFill>
        <p:spPr>
          <a:xfrm>
            <a:off x="1371600" y="19810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009800" y="1992240"/>
            <a:ext cx="69148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rcRect l="0" t="0" r="1208" b="1541"/>
          <a:stretch/>
        </p:blipFill>
        <p:spPr>
          <a:xfrm>
            <a:off x="914400" y="1828800"/>
            <a:ext cx="716292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2:23:24Z</dcterms:created>
  <dc:creator>Meri</dc:creator>
  <dc:description/>
  <dc:language>en-US</dc:language>
  <cp:lastModifiedBy>MCPASD</cp:lastModifiedBy>
  <dcterms:modified xsi:type="dcterms:W3CDTF">2012-04-10T18:41:18Z</dcterms:modified>
  <cp:revision>9</cp:revision>
  <dc:subject/>
  <dc:title>Event 1: Czechoslovakia Crisis</dc:title>
</cp:coreProperties>
</file>